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38A506-A08C-4528-8E4E-AD5138E0A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25946-DA8F-448D-9B96-4CE659724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FD4F84-8EE6-461C-80AF-CC782F2BCE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25339-7E36-4AAE-9CC8-31FD03BF43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50F9C-DAB5-4F43-B2C4-ECE7BB127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CCD09-FB95-4403-B3B2-9502C5FA2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9A7E2-5764-40A0-96F4-740B83BAF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A6BA3-82AE-455B-A125-EADA6324E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125B8-1651-4024-ABA9-5B44B52CD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46C15-E1E7-4A24-AB0B-E1B3A10A5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79159-F541-48E7-ACB9-6428E84FC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70E88-EF3F-4279-8BC5-2E58555FC8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9a00"/>
            </a:gs>
            <a:gs pos="100000">
              <a:srgbClr val="ffcc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785A8-D93E-4DB7-A08D-A03CEFCDEC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9a00"/>
            </a:gs>
            <a:gs pos="100000">
              <a:srgbClr val="ffcc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p:nvPr>
        </p:nvSpPr>
        <p:spPr>
          <a:xfrm>
            <a:off x="395280" y="764640"/>
            <a:ext cx="4038480" cy="45262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Pre-Budget Submission to Joint Committee on Finance, Public Expenditure and Refor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ursday 3</a:t>
            </a:r>
            <a:r>
              <a:rPr b="0" lang="en-GB" sz="2400" spc="-1" strike="noStrike" baseline="30000">
                <a:solidFill>
                  <a:srgbClr val="000000"/>
                </a:solidFill>
                <a:latin typeface="Arial"/>
              </a:rPr>
              <a:t>rd</a:t>
            </a:r>
            <a:r>
              <a:rPr b="0" lang="en-GB" sz="2400" spc="-1" strike="noStrike">
                <a:solidFill>
                  <a:srgbClr val="000000"/>
                </a:solidFill>
                <a:latin typeface="Arial"/>
              </a:rPr>
              <a:t>  November 2011</a:t>
            </a:r>
            <a:endParaRPr b="0" lang="en-US" sz="2400" spc="-1" strike="noStrike">
              <a:solidFill>
                <a:srgbClr val="000000"/>
              </a:solidFill>
              <a:latin typeface="Arial"/>
            </a:endParaRPr>
          </a:p>
        </p:txBody>
      </p:sp>
      <p:pic>
        <p:nvPicPr>
          <p:cNvPr id="43" name="" descr=""/>
          <p:cNvPicPr/>
          <p:nvPr/>
        </p:nvPicPr>
        <p:blipFill>
          <a:blip r:embed="rId1"/>
          <a:stretch/>
        </p:blipFill>
        <p:spPr>
          <a:xfrm>
            <a:off x="5087880" y="1600200"/>
            <a:ext cx="3159360" cy="4525920"/>
          </a:xfrm>
          <a:prstGeom prst="rect">
            <a:avLst/>
          </a:prstGeom>
          <a:ln w="0">
            <a:noFill/>
          </a:ln>
        </p:spPr>
      </p:pic>
      <p:pic>
        <p:nvPicPr>
          <p:cNvPr id="44" name="" descr=""/>
          <p:cNvPicPr/>
          <p:nvPr/>
        </p:nvPicPr>
        <p:blipFill>
          <a:blip r:embed="rId2"/>
          <a:stretch/>
        </p:blipFill>
        <p:spPr>
          <a:xfrm>
            <a:off x="395280" y="692280"/>
            <a:ext cx="4083120" cy="1180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9a00"/>
            </a:gs>
            <a:gs pos="100000">
              <a:srgbClr val="ffcc00"/>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verview of Presentation</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lls for help to SVP Regional Offi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perience of people contacting SVP for hel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n’t cut their lifeline: SVP priorities for Budget 2012</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9a00"/>
            </a:gs>
            <a:gs pos="100000">
              <a:srgbClr val="ffcc0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ramatic increase in calls for help</a:t>
            </a:r>
            <a:endParaRPr b="0" lang="en-US" sz="4000" spc="-1" strike="noStrike">
              <a:solidFill>
                <a:srgbClr val="000000"/>
              </a:solidFill>
              <a:latin typeface="Arial"/>
            </a:endParaRPr>
          </a:p>
        </p:txBody>
      </p:sp>
      <p:pic>
        <p:nvPicPr>
          <p:cNvPr id="48" name="" descr=""/>
          <p:cNvPicPr/>
          <p:nvPr/>
        </p:nvPicPr>
        <p:blipFill>
          <a:blip r:embed="rId1"/>
          <a:stretch/>
        </p:blipFill>
        <p:spPr>
          <a:xfrm>
            <a:off x="0" y="2565360"/>
            <a:ext cx="9144000" cy="1701720"/>
          </a:xfrm>
          <a:prstGeom prst="rect">
            <a:avLst/>
          </a:prstGeom>
          <a:ln w="0">
            <a:noFill/>
          </a:ln>
        </p:spPr>
      </p:pic>
      <p:sp>
        <p:nvSpPr>
          <p:cNvPr id="49" name=""/>
          <p:cNvSpPr/>
          <p:nvPr/>
        </p:nvSpPr>
        <p:spPr>
          <a:xfrm>
            <a:off x="324000" y="3716280"/>
            <a:ext cx="8351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9a00"/>
            </a:gs>
            <a:gs pos="100000">
              <a:srgbClr val="ffcc00"/>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VP Regional Offices </a:t>
            </a:r>
            <a:br>
              <a:rPr sz="4000"/>
            </a:br>
            <a:r>
              <a:rPr b="0" lang="en-GB" sz="4000" spc="-1" strike="noStrike">
                <a:solidFill>
                  <a:srgbClr val="000000"/>
                </a:solidFill>
                <a:latin typeface="Arial"/>
              </a:rPr>
              <a:t>January to June 2011:</a:t>
            </a:r>
            <a:br>
              <a:rPr sz="4000"/>
            </a:b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3% of calls for help from one parent families, and a further 20% from couples with children</a:t>
            </a:r>
            <a:endParaRPr b="0" lang="en-US" sz="2000" spc="-1" strike="noStrike">
              <a:solidFill>
                <a:srgbClr val="000000"/>
              </a:solidFill>
              <a:latin typeface="Arial"/>
            </a:endParaRPr>
          </a:p>
          <a:p>
            <a:pPr marL="329040" indent="-329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3% of calls made by women</a:t>
            </a:r>
            <a:endParaRPr b="0" lang="en-US" sz="2000" spc="-1" strike="noStrike">
              <a:solidFill>
                <a:srgbClr val="000000"/>
              </a:solidFill>
              <a:latin typeface="Arial"/>
            </a:endParaRPr>
          </a:p>
          <a:p>
            <a:pPr marL="329040" indent="-329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2% of calls came from foreign nationals, SVP members report people struggling due to Habitual Residence Condition and barriers to accessing education</a:t>
            </a:r>
            <a:endParaRPr b="0" lang="en-US" sz="2000" spc="-1" strike="noStrike">
              <a:solidFill>
                <a:srgbClr val="000000"/>
              </a:solidFill>
              <a:latin typeface="Arial"/>
            </a:endParaRPr>
          </a:p>
          <a:p>
            <a:pPr marL="329040" indent="-329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7% in receipt of social welfare, mainly means tested payments such as One Parent Family Payment, Disability Allowance and Jobseekers Allowance, highlighting long term reliance on social welfare and consequent erosion of resources</a:t>
            </a:r>
            <a:endParaRPr b="0" lang="en-US" sz="2000" spc="-1" strike="noStrike">
              <a:solidFill>
                <a:srgbClr val="000000"/>
              </a:solidFill>
              <a:latin typeface="Arial"/>
            </a:endParaRPr>
          </a:p>
          <a:p>
            <a:pPr marL="329040" indent="-329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ople asking for food vouchers, help with fuel/energy costs, help with the cost of education, delays or difficulties in accessing social welfare payments, housing related cos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9a00"/>
            </a:gs>
            <a:gs pos="100000">
              <a:srgbClr val="ffcc00"/>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rapped by the System</a:t>
            </a:r>
            <a:endParaRPr b="0" lang="en-US" sz="4400" spc="-1" strike="noStrike">
              <a:solidFill>
                <a:srgbClr val="000000"/>
              </a:solidFill>
              <a:latin typeface="Arial"/>
            </a:endParaRPr>
          </a:p>
        </p:txBody>
      </p:sp>
      <p:sp>
        <p:nvSpPr>
          <p:cNvPr id="53" name="PlaceHolder 2"/>
          <p:cNvSpPr>
            <a:spLocks noGrp="1"/>
          </p:cNvSpPr>
          <p:nvPr>
            <p:ph/>
          </p:nvPr>
        </p:nvSpPr>
        <p:spPr>
          <a:xfrm>
            <a:off x="250920" y="1557360"/>
            <a:ext cx="4186080" cy="45655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Married man on Jobseekers Allowance, four children; temporary work twice in the last year; long delays in accessing social welfare payment and Rent Supplement after work dried up; SVP provided food vouchers and other supports but still struggling with rent; afraid to apply for temporary work in the future because of the delay in reinstating payments </a:t>
            </a:r>
            <a:endParaRPr b="0" lang="en-US" sz="2400" spc="-1" strike="noStrike">
              <a:solidFill>
                <a:srgbClr val="000000"/>
              </a:solidFill>
              <a:latin typeface="Arial"/>
            </a:endParaRPr>
          </a:p>
        </p:txBody>
      </p:sp>
      <p:pic>
        <p:nvPicPr>
          <p:cNvPr id="54" name="" descr=""/>
          <p:cNvPicPr/>
          <p:nvPr/>
        </p:nvPicPr>
        <p:blipFill>
          <a:blip r:embed="rId1"/>
          <a:stretch/>
        </p:blipFill>
        <p:spPr>
          <a:xfrm>
            <a:off x="4643280" y="1773360"/>
            <a:ext cx="3708720" cy="381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9a00"/>
            </a:gs>
            <a:gs pos="100000">
              <a:srgbClr val="ffcc00"/>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ooks or Food?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Derek contacted the SVP on a Friday evening when his family had €3 to last them until the next week. He had to pay school expenses for his three children which meant the family had no money for food that week. The SVP organised an immediate visit with food vouchers so that they could eat until their social welfare payment came throug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9a00"/>
            </a:gs>
            <a:gs pos="100000">
              <a:srgbClr val="ffcc00"/>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udget 2012</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tect adult social welfare payments, Qualified Child Increases, Family Income Supplement levels and eligibility for social welfare paym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e the social welfare system more responsive to atypical work and self employmen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stablish a National Book Rental Scheme in Primary and Secondary school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19a00"/>
            </a:gs>
            <a:gs pos="100000">
              <a:srgbClr val="ffcc00"/>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udget 2012</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tect eligibility to the medical card and the services provided under this sche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nt Supplement – no increase in tenant contribu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disconnections in winter: make binding</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tect poorest from any increase in the Carbon Tax</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nks to provide and promote appropriate, accessible and free Basic Payment / Bank accounts, available via the Post Office Network</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7T11:17:59Z</dcterms:created>
  <dc:creator>johnmark.mccafferty</dc:creator>
  <dc:description/>
  <dc:language>en-US</dc:language>
  <cp:lastModifiedBy>Caroline Fahey</cp:lastModifiedBy>
  <dcterms:modified xsi:type="dcterms:W3CDTF">2011-11-02T15:23:22Z</dcterms:modified>
  <cp:revision>36</cp:revision>
  <dc:subject/>
  <dc:title> </dc:title>
</cp:coreProperties>
</file>